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B76-E6A6-4114-AAF5-DA18805F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318-DC29-4FE0-987F-84FCA4DF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F50-C048-4BF7-92C6-5007A934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588-969B-4848-9F1A-DE2E5073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554-0C4F-4ACE-9A95-ADD337B5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598-6ED6-4708-9B27-FBF90467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3FA-1865-40BE-9B0A-118BC11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E16-1A99-4D11-89D6-4C9FB82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51D-A839-4DB5-AD8A-6D26FFF0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676-7B2C-4F9C-B752-1086845E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FC2-4706-4041-A77E-CEFF45C0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3D9-29BA-4218-8B9C-0F27BCB1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F4E3-76EA-444E-B8FE-98A755B28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804960" y="1719360"/>
            <a:ext cx="772956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ходим производные для координаты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643040" y="2214720"/>
            <a:ext cx="62816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ходим производные для координаты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6072120" y="857160"/>
            <a:ext cx="285840" cy="549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0707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полярных координат коэффициенты Лямэ примут ви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етье слагаемо в формуле равно нулю, так как в полярных координатах используется только две переме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428920" y="2000160"/>
            <a:ext cx="3500280" cy="1214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357280" y="3714840"/>
            <a:ext cx="3760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ставляем найденные частные производные в полученные выражения и име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357280" y="2714760"/>
            <a:ext cx="3929400" cy="873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2214720" y="4000680"/>
            <a:ext cx="4491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полняя простейшие тригонометрические преобразования, получ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1427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Для полярного радиус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Для полярного угл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Это и есть искомые коэффициенты Лямэ для полярных координа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286080" y="2873520"/>
            <a:ext cx="1857600" cy="841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3286080" y="4429080"/>
            <a:ext cx="17859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ходим дифференциал длины ду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лучае полярных координат формула принимае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тавляя найденные коэффициенты Лямэ, получа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1785960" y="2857680"/>
            <a:ext cx="4929120" cy="785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785960" y="5143680"/>
            <a:ext cx="53211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дл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коэффициенты Лямэ для следующих видов криволинейных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ер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липт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иполяр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вумерные параболиче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Цилиндр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также коэффициенты Лямэ для декартовых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дл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дифференциал длины дуги для следующих видов криволинейных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ер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липт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иполяр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вумерные параболиче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Цилиндри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также дифференциал длины дуги для декартовых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эффициенты Лямэ – это величины, определяющиеся выражени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еобходимы для перехода от одних криволинейных координат к друг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ть функции криволинейных координ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500120" y="1857240"/>
            <a:ext cx="6315120" cy="1571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57160" y="4714920"/>
            <a:ext cx="1362240" cy="447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3143160" y="5286240"/>
            <a:ext cx="2114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фференциал длины дуги в криволинейных координа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риволинейные координ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1933920" indent="-214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оответствующие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эффициенты Лям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214280" y="2428920"/>
            <a:ext cx="7064640" cy="714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9696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928800" y="3929040"/>
            <a:ext cx="1928880" cy="719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928800" y="4857840"/>
            <a:ext cx="21589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типов криволинейных координ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57280" y="2143080"/>
            <a:ext cx="63295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ляр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феричес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Цилиндричес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язь основных криволинейных координат с декартов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лярные координ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Цилиндрические координ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ферические координ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500200" y="2357280"/>
            <a:ext cx="380052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143080" y="3666960"/>
            <a:ext cx="47530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1847880" y="4967280"/>
            <a:ext cx="6153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полнительные виды криволинейных координ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ллиптическ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вумерные параболическ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Цилиндрические параболическ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иполяр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000160" y="2357280"/>
            <a:ext cx="5597640" cy="5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500200" y="3500280"/>
            <a:ext cx="3227400" cy="642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322360" y="5800680"/>
            <a:ext cx="4035600" cy="7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4"/>
          <a:stretch/>
        </p:blipFill>
        <p:spPr>
          <a:xfrm>
            <a:off x="1785960" y="4714920"/>
            <a:ext cx="527364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7788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67788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969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969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Рассмотрим пример нахождения коэффициентов Лямэ и дифференциала длины дуги для полярных координ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полярных координат име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риволинейные координаты  в данном случа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этому необходимо найти коэффициен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96232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857240" y="3286080"/>
            <a:ext cx="5808960" cy="100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711600" y="5072040"/>
            <a:ext cx="217440" cy="571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4"/>
          <a:stretch/>
        </p:blipFill>
        <p:spPr>
          <a:xfrm>
            <a:off x="4786200" y="5095800"/>
            <a:ext cx="2476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5"/>
          <a:stretch/>
        </p:blipFill>
        <p:spPr>
          <a:xfrm>
            <a:off x="7429680" y="5643720"/>
            <a:ext cx="1571400" cy="70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этого необходимо найти частные производ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шем случа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214800" y="1928880"/>
            <a:ext cx="771480" cy="1218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072040" y="1928880"/>
            <a:ext cx="781200" cy="1218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2928960" y="3857760"/>
            <a:ext cx="32479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3000240" y="5286240"/>
            <a:ext cx="3257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2:17:37Z</dcterms:created>
  <dc:creator>Михаил</dc:creator>
  <dc:description/>
  <dc:language>en-US</dc:language>
  <cp:lastModifiedBy>Михаил</cp:lastModifiedBy>
  <dcterms:modified xsi:type="dcterms:W3CDTF">2010-10-17T19:42:23Z</dcterms:modified>
  <cp:revision>8</cp:revision>
  <dc:subject/>
  <dc:title>Слайд 1</dc:title>
</cp:coreProperties>
</file>